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move the slide</a:t>
            </a:r>
            <a:endParaRPr b="0" lang="en-US" sz="4000" spc="-1" strike="noStrike">
              <a:solidFill>
                <a:srgbClr val="2f5897"/>
              </a:solidFill>
              <a:latin typeface="Arial"/>
            </a:endParaRPr>
          </a:p>
        </p:txBody>
      </p:sp>
      <p:sp>
        <p:nvSpPr>
          <p:cNvPr id="223"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8EE9-CF76-44A8-86AE-045D4E05B8C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to last bit of workbook</a:t>
            </a:r>
            <a:endParaRPr b="0" lang="en-US" sz="1200" spc="-1" strike="noStrike">
              <a:solidFill>
                <a:srgbClr val="000000"/>
              </a:solidFill>
              <a:latin typeface="Calibri"/>
            </a:endParaRPr>
          </a:p>
        </p:txBody>
      </p:sp>
      <p:sp>
        <p:nvSpPr>
          <p:cNvPr id="2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3ABB-23E5-461E-AB55-7DABEBC1E4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2C2A-3451-4DCF-A2AA-87A2079509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A0D7-FC98-43F2-9215-D552D4B280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4A806-936E-4EF3-A026-01DAF79DE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DC85E-B413-449F-B108-AE17C30BE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061FF-4FE5-4C13-A99E-48035EA8C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6AB6F-7A44-46F4-B4CE-2830C07D7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0E7B1-7F2B-4D10-8288-404399BB5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98EED-36A3-4A90-88A9-7361397BC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61E89-AD9E-4EA2-B8B7-DD1CCE6CD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F9D5B-133B-4D9B-AE5F-9068245CC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76FEE-4F5F-41B3-93BB-F291A5911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E7309-28A4-4A8A-9494-153FB2B22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724B1-67C6-4AA5-A981-5F28CC9E2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E6145-D945-4DD4-9F87-0FAE9A20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56CF3-71C4-49C2-B20F-8F647BFD1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EC938-EDBE-4E97-9729-6AD6E7BCC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0EA42-3AA1-4BD7-A447-9201C5301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94260-EBF2-4B9D-A745-BF8102D80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93480-E8FF-4316-A3EE-A1CCCD2DD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23C451-864F-4F34-8002-69ECBAC80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36B2A-A888-4B58-9793-0CA18F83A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194E69-F588-447F-BC6C-0D2586CF25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90DFD5-963A-4894-8071-D57F283B9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C057D-8DBD-4318-8FB0-759B1E562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6730A-E15D-4FB4-A06E-9F59DC266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129BD-E52C-4933-BB77-9DC006F95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64E4B-8C85-403D-9771-01A23BFC2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5AD7D-848B-4843-A668-3EFB30E83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57A68-3D2A-4E07-856D-84501604A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0AE24-A838-4D06-BB2F-70F5F7E52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C0FC9A-68AA-40F3-BED8-F42423FF5C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541170-6D7E-465B-966A-1714F602B7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A96CCE-1701-432F-BEFF-30E73CDD5E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81E39A-FD68-464D-AAD3-D71F69108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6D601-4311-4170-BA3F-83EBF5BE5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7E699-F37D-4E41-B3B6-F7AFAA63C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C9CF5-7709-4528-9C8D-482D72640B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E514B2-B86A-4D58-AA9D-B92CA6BD3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1A238-E8F2-492D-9012-AE632DE29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E6415-37B2-4FF8-922D-4122408C5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D39C4-BEA6-4CF2-A506-87A333C55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7376B-FCCA-4FFD-9503-96444D44D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E6ECE3-175C-4218-B549-6D524D300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1304C2-8450-405F-923E-6421797B9E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1D90D-3F68-4863-9DB6-D6F8CB6EEA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B77655-1256-4F77-9FB2-ED267ED239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0AEF0-28E6-4996-BA43-8D852D5B6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07D34-C689-4751-8A77-FF04CBDC82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1A3DFE-8B39-4563-B30F-6243B9FAF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520CF4-884A-4EB2-A75D-00C5412D8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1F62DD-F056-45A8-91DF-9014D71E4F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515F7-E6D1-44A0-906E-787D8A873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C7E09-B7DE-40C1-80CB-F2BB9DCDE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05F2D-BC37-43A3-B67E-6A429CD44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295A1-4723-49F1-ACF8-198DA904E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9C1434-18A1-4592-930D-932F9AFA6A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455050-E800-45E8-9D18-A6D488FD76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17D1B-7543-4044-8699-6BB4F6108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6416FD-3544-42C3-93DA-3A82D81C2C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1D1C4-120B-4D48-A529-178226A35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5C78-1D3B-4C9B-A948-8624F29D0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ECEA-ABBB-4C29-B58F-2DDA94049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6F9A-D51A-4258-8FDF-3641455F5606}" type="datetime">
              <a:rPr b="0" lang="en-GB"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A109-A42E-4AA5-AA08-75E64D77E21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7"/>
          <p:cNvSpPr/>
          <p:nvPr/>
        </p:nvSpPr>
        <p:spPr>
          <a:xfrm>
            <a:off x="685800" y="3398760"/>
            <a:ext cx="7848720" cy="1800"/>
          </a:xfrm>
          <a:prstGeom prst="line">
            <a:avLst/>
          </a:prstGeom>
          <a:ln w="19080">
            <a:solidFill>
              <a:srgbClr val="2f589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0C9A-B1C1-4093-9AD2-437B6440C052}" type="datetime">
              <a:rPr b="0" lang="en-GB"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0B12-9FCB-4661-B6D7-657A34B27ED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897"/>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6"/>
          <p:cNvSpPr/>
          <p:nvPr/>
        </p:nvSpPr>
        <p:spPr>
          <a:xfrm>
            <a:off x="731880" y="4599000"/>
            <a:ext cx="7848720" cy="1440"/>
          </a:xfrm>
          <a:prstGeom prst="line">
            <a:avLst/>
          </a:prstGeom>
          <a:ln w="19080">
            <a:solidFill>
              <a:srgbClr val="e4e9e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e9ef"/>
                </a:solidFill>
                <a:latin typeface="Arial"/>
              </a:rPr>
              <a:t>Click to edit the title text format</a:t>
            </a:r>
            <a:endParaRPr b="0" lang="en-US" sz="4000" spc="-1" strike="noStrike">
              <a:solidFill>
                <a:srgbClr val="e4e9ef"/>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9468-3393-4E49-96D1-B4EA18467D5D}" type="datetime">
              <a:rPr b="0" lang="en-GB"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A8B3-5501-43AE-84E0-A34E1CEB8E6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10"/>
          <p:cNvSpPr/>
          <p:nvPr/>
        </p:nvSpPr>
        <p:spPr>
          <a:xfrm flipH="1">
            <a:off x="4572000" y="1692360"/>
            <a:ext cx="1440" cy="4708440"/>
          </a:xfrm>
          <a:prstGeom prst="line">
            <a:avLst/>
          </a:prstGeom>
          <a:ln w="1908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7416-70D3-452E-9986-F098E06AAABA}" type="datetime">
              <a:rPr b="0" lang="en-GB"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EF83-6933-4206-AA11-0B17614D989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8"/>
          <p:cNvSpPr/>
          <p:nvPr/>
        </p:nvSpPr>
        <p:spPr>
          <a:xfrm flipH="1">
            <a:off x="2774520" y="792000"/>
            <a:ext cx="1800" cy="5578560"/>
          </a:xfrm>
          <a:prstGeom prst="line">
            <a:avLst/>
          </a:prstGeom>
          <a:ln w="1908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A7AC-0E38-45D6-9B77-4853E403089E}" type="datetime">
              <a:rPr b="0" lang="en-GB"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DEAE-1572-41E5-BC64-B0B755036BC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www.gov.uk/government/publications/assessment-innovation-fund-application-form" TargetMode="External"/><Relationship Id="rId2" Type="http://schemas.openxmlformats.org/officeDocument/2006/relationships/hyperlink" Target="https://www.gov.uk/government/publications/assessment-innovation-fund-application-form"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v.uk/government/news/teaching-the-new-computing-curriculum" TargetMode="External"/><Relationship Id="rId2" Type="http://schemas.openxmlformats.org/officeDocument/2006/relationships/hyperlink" Target="http://www.gov.uk/government/news/teaching-the-new-computing-curriculu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2f5897"/>
                </a:solidFill>
                <a:latin typeface="Arial"/>
              </a:rPr>
              <a:t>THE NEW NATIONAL CURRICULUM FOR PRIMARY SCHOOLS</a:t>
            </a:r>
            <a:endParaRPr b="0" lang="en-US" sz="4900" spc="-1" strike="noStrike">
              <a:solidFill>
                <a:srgbClr val="2f5897"/>
              </a:solidFill>
              <a:latin typeface="Arial"/>
            </a:endParaRPr>
          </a:p>
        </p:txBody>
      </p:sp>
      <p:sp>
        <p:nvSpPr>
          <p:cNvPr id="227"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rPr>
              <a:t>Cluster Meeti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rPr>
              <a:t>January 2014</a:t>
            </a:r>
            <a:endParaRPr b="0" lang="en-US" sz="2400" spc="-1" strike="noStrike">
              <a:solidFill>
                <a:srgbClr val="000000"/>
              </a:solidFill>
              <a:latin typeface="Arial"/>
            </a:endParaRPr>
          </a:p>
        </p:txBody>
      </p:sp>
      <p:sp>
        <p:nvSpPr>
          <p:cNvPr id="228"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Primary Computing Guide</a:t>
            </a:r>
            <a:endParaRPr b="0" lang="en-US" sz="4000" spc="-1" strike="noStrike">
              <a:solidFill>
                <a:srgbClr val="2f5897"/>
              </a:solidFill>
              <a:latin typeface="Arial"/>
            </a:endParaRPr>
          </a:p>
        </p:txBody>
      </p:sp>
      <p:sp>
        <p:nvSpPr>
          <p:cNvPr id="25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 in association with Naace and other partners have published a guide for primary school teachers. The guide explains how primary teachers can get started with the new curriculum and provides many pointers to excellent resources and ideas for building an innovative and exciting curriculum. </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going:</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sion 2 of al the year group sessions at CLC</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established Subject Leaders Network</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Design and Technology</a:t>
            </a:r>
            <a:endParaRPr b="0" lang="en-US" sz="4000" spc="-1" strike="noStrike">
              <a:solidFill>
                <a:srgbClr val="2f5897"/>
              </a:solidFill>
              <a:latin typeface="Arial"/>
            </a:endParaRPr>
          </a:p>
        </p:txBody>
      </p:sp>
      <p:sp>
        <p:nvSpPr>
          <p:cNvPr id="25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ing the changes to the PoS – raising the bar, more precise language, cooking</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ff INSET tasks to explore nature of D&amp;T</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sion 3 sharing practical ideas </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sion 4 - Assessment</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Geography</a:t>
            </a:r>
            <a:endParaRPr b="0" lang="en-US" sz="4000" spc="-1" strike="noStrike">
              <a:solidFill>
                <a:srgbClr val="2f5897"/>
              </a:solidFill>
              <a:latin typeface="Arial"/>
            </a:endParaRPr>
          </a:p>
        </p:txBody>
      </p:sp>
      <p:sp>
        <p:nvSpPr>
          <p:cNvPr id="26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ing change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t of new NC against current practice</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ion of skills and knowledge</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next – </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ring practical ideas and ‘having a go’</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History</a:t>
            </a:r>
            <a:endParaRPr b="0" lang="en-US" sz="4000" spc="-1" strike="noStrike">
              <a:solidFill>
                <a:srgbClr val="2f5897"/>
              </a:solidFill>
              <a:latin typeface="Arial"/>
            </a:endParaRPr>
          </a:p>
        </p:txBody>
      </p:sp>
      <p:sp>
        <p:nvSpPr>
          <p:cNvPr id="263" name=""/>
          <p:cNvSpPr txBox="1"/>
          <p:nvPr/>
        </p:nvSpPr>
        <p:spPr>
          <a:xfrm>
            <a:off x="457200" y="1599840"/>
            <a:ext cx="8229600" cy="4876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WARNING: The draft history curriculum received huge press coverage, the final curriculum not nearly so much. The final curriculum is VERY DIFFERENT FROM THE DRAF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y teachers are still convinced that things they read about the draft are what they have to do. If you are a history co-ordinator make sure staff know the facts not the myths! Read what is actually written in the curriculum and check out our FAQs which unpick some of the rumours and misinform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
        <p:nvSpPr>
          <p:cNvPr id="264"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Languages</a:t>
            </a:r>
            <a:endParaRPr b="0" lang="en-US" sz="4000" spc="-1" strike="noStrike">
              <a:solidFill>
                <a:srgbClr val="2f5897"/>
              </a:solidFill>
              <a:latin typeface="Arial"/>
            </a:endParaRPr>
          </a:p>
        </p:txBody>
      </p:sp>
      <p:sp>
        <p:nvSpPr>
          <p:cNvPr id="26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ed by Network for Languages London – Westminster University</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dates on new resource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nning for progression</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tting them Talking</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s</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LSEF funded projects have been approved each with capacity to support Wandsworth School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Music</a:t>
            </a:r>
            <a:endParaRPr b="0" lang="en-US" sz="4000" spc="-1" strike="noStrike">
              <a:solidFill>
                <a:srgbClr val="2f5897"/>
              </a:solidFill>
              <a:latin typeface="Arial"/>
            </a:endParaRPr>
          </a:p>
        </p:txBody>
      </p:sp>
      <p:sp>
        <p:nvSpPr>
          <p:cNvPr id="269" name=""/>
          <p:cNvSpPr txBox="1"/>
          <p:nvPr/>
        </p:nvSpPr>
        <p:spPr>
          <a:xfrm>
            <a:off x="457200" y="1599840"/>
            <a:ext cx="8229600" cy="4876920"/>
          </a:xfrm>
          <a:prstGeom prst="rect">
            <a:avLst/>
          </a:prstGeom>
          <a:noFill/>
          <a:ln w="0">
            <a:noFill/>
          </a:ln>
        </p:spPr>
        <p:txBody>
          <a:bodyPr anchor="t">
            <a:normAutofit fontScale="96000"/>
          </a:bodyPr>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ing changes</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and progression</a:t>
            </a:r>
            <a:endParaRPr b="0" lang="en-US" sz="2400" spc="-1" strike="noStrike">
              <a:solidFill>
                <a:srgbClr val="000000"/>
              </a:solidFill>
              <a:latin typeface="Arial"/>
            </a:endParaRPr>
          </a:p>
          <a:p>
            <a:pPr lvl="1" marL="438840" indent="-17496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ssessment structures: lesson structures that support AfL during music lessons; whole school assessment structures including pupil tracking; instrumental music learning and assessment</a:t>
            </a:r>
            <a:endParaRPr b="0" lang="en-US" sz="2000" spc="-1" strike="noStrike">
              <a:solidFill>
                <a:srgbClr val="000000"/>
              </a:solidFill>
              <a:latin typeface="Arial"/>
            </a:endParaRPr>
          </a:p>
          <a:p>
            <a:pPr lvl="1" marL="438840" indent="-17496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ecording: the role of audio and video recording in music assessment; group analysis of videos of pupil composition</a:t>
            </a:r>
            <a:endParaRPr b="0" lang="en-US" sz="2000" spc="-1" strike="noStrike">
              <a:solidFill>
                <a:srgbClr val="000000"/>
              </a:solidFill>
              <a:latin typeface="Arial"/>
            </a:endParaRPr>
          </a:p>
          <a:p>
            <a:pPr lvl="1" marL="438840" indent="-17496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elf-assessment: resources to support pupil self-assessment</a:t>
            </a:r>
            <a:endParaRPr b="0" lang="en-US" sz="2000" spc="-1" strike="noStrike">
              <a:solidFill>
                <a:srgbClr val="000000"/>
              </a:solidFill>
              <a:latin typeface="Arial"/>
            </a:endParaRPr>
          </a:p>
          <a:p>
            <a:pPr lvl="1" marL="438840" indent="-17496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Creative starters: ideas for practical music making</a:t>
            </a:r>
            <a:endParaRPr b="0" lang="en-US" sz="20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ing class teachers – CPD</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hole School’ approach to music</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dgets – pupil premium – tracking vulnerable groups</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working - The Wandsworth Music Hub</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Physical Education</a:t>
            </a:r>
            <a:endParaRPr b="0" lang="en-US" sz="4000" spc="-1" strike="noStrike">
              <a:solidFill>
                <a:srgbClr val="2f5897"/>
              </a:solidFill>
              <a:latin typeface="Arial"/>
            </a:endParaRPr>
          </a:p>
        </p:txBody>
      </p:sp>
      <p:sp>
        <p:nvSpPr>
          <p:cNvPr id="272" name=""/>
          <p:cNvSpPr txBox="1"/>
          <p:nvPr/>
        </p:nvSpPr>
        <p:spPr>
          <a:xfrm>
            <a:off x="457200" y="1599840"/>
            <a:ext cx="8229600" cy="48769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s happened?</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 changes and audit practice</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ources for areas teachers less confident with :DANCE, GYMNASTICS, KS1,  OUTDOOR ADVENTUROUS ACTIVITY</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next – Audit of need - CP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 Primary PE Network (28</a:t>
            </a:r>
            <a:r>
              <a:rPr b="0" lang="en-GB" sz="2400" spc="-1" strike="noStrike" baseline="30000">
                <a:solidFill>
                  <a:srgbClr val="000000"/>
                </a:solidFill>
                <a:latin typeface="Arial"/>
              </a:rPr>
              <a:t>th</a:t>
            </a:r>
            <a:r>
              <a:rPr b="0" lang="en-GB" sz="2400" spc="-1" strike="noStrike">
                <a:solidFill>
                  <a:srgbClr val="000000"/>
                </a:solidFill>
                <a:latin typeface="Arial"/>
              </a:rPr>
              <a:t> January)</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orts Premium funding update and planning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at future CPD programmes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Websites/ Kitemark &amp; Ofsted Reporting on the Sports Premium.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nis Development.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Where are you up to?</a:t>
            </a:r>
            <a:endParaRPr b="0" lang="en-US" sz="4000" spc="-1" strike="noStrike">
              <a:solidFill>
                <a:srgbClr val="2f5897"/>
              </a:solidFill>
              <a:latin typeface="Arial"/>
            </a:endParaRPr>
          </a:p>
        </p:txBody>
      </p:sp>
      <p:sp>
        <p:nvSpPr>
          <p:cNvPr id="275"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ve you been able to do since the last meeting?</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your plans for implementation?</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you trialled any of the Programmes of Study? Which subject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you developed planning formats/ resource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you attempted to map out/ timetable the new curriculum? Have there been issues about subject weighting?</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your priorities for the coming term?</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Exploring assessment</a:t>
            </a:r>
            <a:endParaRPr b="0" lang="en-US" sz="4000" spc="-1" strike="noStrike">
              <a:solidFill>
                <a:srgbClr val="2f5897"/>
              </a:solidFill>
              <a:latin typeface="Arial"/>
            </a:endParaRPr>
          </a:p>
        </p:txBody>
      </p:sp>
      <p:sp>
        <p:nvSpPr>
          <p:cNvPr id="278"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further guidance or information from DfE published</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del assessment systems and sample assessment materials expected at the end of 2013 have not yet been published.</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fE has announced a fund for Primary Assessment Innovation – January 2014</a:t>
            </a:r>
            <a:endParaRPr b="0" lang="en-US" sz="2200" spc="-1" strike="noStrike">
              <a:solidFill>
                <a:srgbClr val="000000"/>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3399ff"/>
                </a:solidFill>
                <a:uFillTx/>
                <a:latin typeface="Arial"/>
                <a:hlinkClick r:id="rId1"/>
              </a:rPr>
              <a:t>https://</a:t>
            </a:r>
            <a:r>
              <a:rPr b="0" lang="en-GB" sz="2200" spc="-1" strike="noStrike" u="sng">
                <a:solidFill>
                  <a:srgbClr val="3399ff"/>
                </a:solidFill>
                <a:uFillTx/>
                <a:latin typeface="Arial"/>
                <a:hlinkClick r:id="rId2"/>
              </a:rPr>
              <a:t>www.gov.uk/government/publications/assessment-innovation-fund-application-form</a:t>
            </a:r>
            <a:endParaRPr b="0" lang="en-US" sz="2200" spc="-1" strike="noStrike">
              <a:solidFill>
                <a:srgbClr val="000000"/>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ponses to the consultation on Wikispace</a:t>
            </a:r>
            <a:endParaRPr b="0" lang="en-US" sz="2200" spc="-1" strike="noStrike">
              <a:solidFill>
                <a:srgbClr val="000000"/>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are your early views about assessment?</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ave you trialled any assessment against the new PoS?</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Keeping updated</a:t>
            </a:r>
            <a:endParaRPr b="0" lang="en-US" sz="4000" spc="-1" strike="noStrike">
              <a:solidFill>
                <a:srgbClr val="2f5897"/>
              </a:solidFill>
              <a:latin typeface="Arial"/>
            </a:endParaRPr>
          </a:p>
        </p:txBody>
      </p:sp>
      <p:sp>
        <p:nvSpPr>
          <p:cNvPr id="281" name=""/>
          <p:cNvSpPr txBox="1"/>
          <p:nvPr/>
        </p:nvSpPr>
        <p:spPr>
          <a:xfrm>
            <a:off x="457200" y="1413000"/>
            <a:ext cx="8229600" cy="525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ai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kispac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primarynationalcurriculum2014.wikispaces.co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itt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iculumWatc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Aims of the cluster groups</a:t>
            </a:r>
            <a:endParaRPr b="0" lang="en-US" sz="4000" spc="-1" strike="noStrike">
              <a:solidFill>
                <a:srgbClr val="2f5897"/>
              </a:solidFill>
              <a:latin typeface="Arial"/>
            </a:endParaRPr>
          </a:p>
        </p:txBody>
      </p:sp>
      <p:sp>
        <p:nvSpPr>
          <p:cNvPr id="230"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meet regularly to:</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re experiences of implementing the new National Curriculum</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ddress common priorities in more detail</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receive national updates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receive subject specific updates from development group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provide the forum for sharing curriculum and planning resource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Agenda</a:t>
            </a:r>
            <a:endParaRPr b="0" lang="en-US" sz="4000" spc="-1" strike="noStrike">
              <a:solidFill>
                <a:srgbClr val="2f5897"/>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dates from CPD programme</a:t>
            </a:r>
            <a:endParaRPr b="0" lang="en-US" sz="24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glish, Maths, Science and Computing for class teachers</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glish, Maths, Science and Computing for subject leaders</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undation subjects development groups</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edback</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cross school visit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updates and discussion</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tion – progress and concerns</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2f5897"/>
                </a:solidFill>
                <a:latin typeface="Arial"/>
              </a:rPr>
              <a:t>English </a:t>
            </a:r>
            <a:endParaRPr b="0" lang="en-US" sz="4800" spc="-1" strike="noStrike">
              <a:solidFill>
                <a:srgbClr val="2f5897"/>
              </a:solidFill>
              <a:latin typeface="Arial"/>
            </a:endParaRPr>
          </a:p>
        </p:txBody>
      </p:sp>
      <p:sp>
        <p:nvSpPr>
          <p:cNvPr id="236"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 Group of voluntary subject leaders to work next meeting (12</a:t>
            </a:r>
            <a:r>
              <a:rPr b="0" lang="en-GB" sz="2400" spc="-1" strike="noStrike" baseline="30000">
                <a:solidFill>
                  <a:srgbClr val="000000"/>
                </a:solidFill>
                <a:latin typeface="Arial"/>
              </a:rPr>
              <a:t>th</a:t>
            </a:r>
            <a:r>
              <a:rPr b="0" lang="en-GB" sz="2400" spc="-1" strike="noStrike">
                <a:solidFill>
                  <a:srgbClr val="000000"/>
                </a:solidFill>
                <a:latin typeface="Arial"/>
              </a:rPr>
              <a:t> February)</a:t>
            </a:r>
            <a:endParaRPr b="0" lang="en-US" sz="24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lanning overview long term and medium term plans linked to genre with learning outcomes and text suggestions</a:t>
            </a: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gression documents  (Writing already on Wiki)</a:t>
            </a: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mmar staff meeting</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half day sessions this term:</a:t>
            </a:r>
            <a:endParaRPr b="0" lang="en-US" sz="24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s 3,4,5 and 6 – Grammar training with Nikki Gamble</a:t>
            </a: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s 1 and 2 – Comprehension and vocab building</a:t>
            </a: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Mathematics</a:t>
            </a:r>
            <a:endParaRPr b="0" lang="en-US" sz="4000" spc="-1" strike="noStrike">
              <a:solidFill>
                <a:srgbClr val="2f5897"/>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hs Curriculum Development Group</a:t>
            </a:r>
            <a:endParaRPr b="0" lang="en-US" sz="24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gression charts</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culations policy</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 term planning document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lf day sessions:</a:t>
            </a:r>
            <a:endParaRPr b="0" lang="en-US" sz="24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ssion one: Overview of curriculum, Addition &amp; subtraction</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ssion two: Multiplication &amp; division (from arrays to formal written methods), Fractions </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ssion three: medium and short term planning (Summer term)</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Science</a:t>
            </a:r>
            <a:endParaRPr b="0" lang="en-US" sz="4000" spc="-1" strike="noStrike">
              <a:solidFill>
                <a:srgbClr val="2f5897"/>
              </a:solidFill>
              <a:latin typeface="Arial"/>
            </a:endParaRPr>
          </a:p>
        </p:txBody>
      </p:sp>
      <p:sp>
        <p:nvSpPr>
          <p:cNvPr id="24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 Knowledge for Year 5 and 6 – will need further CPD in Summer Term</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 leadership – will pick up themes and issues in regular Primary Science Network Meetings DS10</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3th February, 13th March and 5th June)</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documents except the ‘Skill Progression Grids’ are on wiki</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hallenging subject in regard to curriculum design in KS2 </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Art</a:t>
            </a:r>
            <a:endParaRPr b="0" lang="en-US" sz="4000" spc="-1" strike="noStrike">
              <a:solidFill>
                <a:srgbClr val="2f5897"/>
              </a:solidFill>
              <a:latin typeface="Arial"/>
            </a:endParaRPr>
          </a:p>
        </p:txBody>
      </p:sp>
      <p:sp>
        <p:nvSpPr>
          <p:cNvPr id="24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ing good practice and progression within the slimmed down curriculum.</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t tool (Principles, curriculum, pedagogy, assessment of learning and teaching)</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fE v NSEAD (National Society for Education in Art and Design) – to make sense of skills progression</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Computing</a:t>
            </a:r>
            <a:endParaRPr b="0" lang="en-US" sz="4000" spc="-1" strike="noStrike">
              <a:solidFill>
                <a:srgbClr val="2f5897"/>
              </a:solidFill>
              <a:latin typeface="Arial"/>
            </a:endParaRPr>
          </a:p>
        </p:txBody>
      </p:sp>
      <p:sp>
        <p:nvSpPr>
          <p:cNvPr id="24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ucation Minister Elizabeth Truss has announced funding of £1.1 million for the British Computer Society (BCS) - the Chartered Institute for IT - to develop a computing readiness programme aimed specifically at primary school teachers with no prior experience of computer science.</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399ff"/>
                </a:solidFill>
                <a:uFillTx/>
                <a:latin typeface="Arial"/>
                <a:hlinkClick r:id="rId1"/>
              </a:rPr>
              <a:t>www.gov.uk</a:t>
            </a:r>
            <a:r>
              <a:rPr b="0" lang="en-GB" sz="2400" spc="-1" strike="noStrike" u="sng">
                <a:solidFill>
                  <a:srgbClr val="3399ff"/>
                </a:solidFill>
                <a:uFillTx/>
                <a:latin typeface="Arial"/>
                <a:hlinkClick r:id="rId2"/>
              </a:rPr>
              <a:t>/government/news/teaching-the-new-computing-curriculum</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Computing at School</a:t>
            </a:r>
            <a:endParaRPr b="0" lang="en-US" sz="4000" spc="-1" strike="noStrike">
              <a:solidFill>
                <a:srgbClr val="2f5897"/>
              </a:solidFill>
              <a:latin typeface="Arial"/>
            </a:endParaRPr>
          </a:p>
        </p:txBody>
      </p:sp>
      <p:sp>
        <p:nvSpPr>
          <p:cNvPr id="251"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 (Computing at School) is looking for both primary and secondary teachers to apply to become CAS master teachers. CAS Master Teachers will deliver local CPD to teachers and schools and play a vital role in developing computing provision in schools nationally.” Details of the programme can be found at </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omputingatschool.org.uk/index.php?id=noe-master-teachers</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2:00:45Z</dcterms:created>
  <dc:creator>Fitzpatrick, Elizabeth</dc:creator>
  <dc:description/>
  <dc:language>en-US</dc:language>
  <cp:lastModifiedBy>wbc</cp:lastModifiedBy>
  <cp:lastPrinted>2014-01-20T14:48:09Z</cp:lastPrinted>
  <dcterms:modified xsi:type="dcterms:W3CDTF">2014-01-23T14:26:44Z</dcterms:modified>
  <cp:revision>90</cp:revision>
  <dc:subject/>
  <dc:title>The proposed new National Curriculum for primary schools</dc:title>
</cp:coreProperties>
</file>